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9A77-717A-4733-9C57-EB055E23A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K allows for another important perspective of cognitive complexity.    Think about the content assessed in a test item and the intended cognitive demand, or the depth to which we expect students to demonstrate understanding of that content.   Webb’s DOK levels name &amp; describe four different ways a stud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865F-24C0-4D78-A777-B4EC184DD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hink the meaning of test alignment to standards to include both the content assessed in a test item and intended cognitive demand, or the depth to which we expect students to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emonstrate understanding of that content.  What can they </a:t>
            </a:r>
            <a:r>
              <a:rPr b="0" i="1" lang="en-US" sz="1200" spc="-1" strike="noStrike">
                <a:solidFill>
                  <a:srgbClr val="c0504d"/>
                </a:solidFill>
                <a:latin typeface="Calibri"/>
              </a:rPr>
              <a:t>do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with their knowled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C662-31C7-40F8-8AF9-F03366A58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953-25E8-4F2E-A04C-ACCAB5CE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D71-E65A-4EED-9B70-069A905B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89D4-93B3-420F-A333-DF6E42BC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E42-4B2F-43F5-A895-81A6A7A1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7C98-E3E2-4399-89DF-9E799F5C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C636-9B6B-436A-A6E7-D722E7D1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13A0-708F-4E7A-9926-2C3CE4F1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E230-735D-4136-97EB-BC3B6A93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570C-9307-4824-BEE1-7703AE7C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E227-8531-418E-8E4C-159D8FF9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A1DA-F9FF-4D15-8E5B-4EE2FD15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2A75-39B4-49AB-A867-08D4FB33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875B-6463-4A45-BAC1-53648178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733F-329F-45F0-A79F-D1D4F15E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45C4-F7EB-44BA-9DB9-B79202CE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4BA4-4D72-45B1-9562-8C31E1E7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CA13-137B-4CAF-BA55-A6565A3C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A383A-EAA7-4A9A-B491-B633ABAE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16B02-B373-4D34-9DC7-DC3360BF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C920B-4061-4415-BAA5-06FA7D3D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13D82-0A10-4192-802E-905A42E1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80090-73C3-49FA-9594-48ECFC82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3A80-5E2C-4263-A18C-F3D91670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E7DC5-F9BF-4C3D-9EAE-7C245686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38AFB-DFF5-4E0E-9F06-AEF4B2CC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A770C-D643-4387-A3AC-94A85E9E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2C0C1-89F2-4918-9F50-5910B4A7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153B4-E997-4BB6-B6B2-816C12AF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3332D-CD20-4753-BCB7-53EDE807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00DD8-8CF3-44EB-AE2A-D4F107C1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52502-42FA-4F9C-89E8-CCB94F9B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8A566-43DF-4F48-BAE4-17494852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8E9DE-12B5-4869-893F-3EFE2075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F342-EDB7-4D18-943F-805EA5D2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D4CF4-A8FC-4077-A726-670FE68A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5C2D6-E397-4FB0-A9B0-BDB11F2C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B0B5D-A8EB-409D-A341-8695156F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B493D-8A45-482F-B2A5-4583E561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294AE-E48C-4060-A0E2-F844F006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1D300-921B-4064-9D57-B04BB7FF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27F7C-9846-481E-BF10-C4961A16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F2C74-DC66-47F9-B062-EDA68B7B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51F5C-FDC0-4284-AB20-EE82947D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D409B-5FAE-4FF1-9E45-BBA8EBD8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F65C-3800-4991-9D3B-FC87EDD7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C2D26-5312-439D-B9F5-1D42E02A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B5FCA-3A5E-4FB6-98B3-AC2FFCE3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628C2-88B7-433E-A510-449260C3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03EEC-CF4D-47C7-8C31-D8F50905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D1059-8663-43BA-9230-CEDB4877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2C147-3C56-4F21-842E-DDDA496F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2FBD1-4E2C-4472-92F3-E516EC91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56363-D638-4F64-BB58-96E6B0FE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CDA97-596E-477C-A745-641A6D41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C89CB-0CB6-447B-B5BA-82282ABA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DDB-F71B-4C03-8CCD-0F8C7300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96EDC-F736-4EB7-8920-516BD56B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93D06-ADE5-4600-B763-06102C57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BF1DA-6BE3-42A5-8155-D1ED91B2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5CB53-6175-4148-B2BB-C6F21716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912E4-489E-48E4-B784-4A42A3BA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D84F6-DDA1-451A-9269-1E65FC3B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42492-4CB2-4872-BAD0-4CA067CC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58EDA-254D-4C1A-93E9-FAF06E1C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4C8F2-B1DD-40F6-9325-63C18F63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058E7-A794-42E5-BB8A-01F972CD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E29A-014C-4948-BB4F-4C6A9C44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4FEB1-EC1A-456E-AFA1-74912F38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D87E4-BEE1-462A-A6DA-E9F31DD8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7990F-C3AC-443F-A475-2A647338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444EC-44D6-4759-82CA-0FD000FD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BFF4E-CDA9-4EB3-A6C5-DAB75D49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A1167-CB51-45D9-9294-76C765D7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55DC0-F50C-4C6A-AD4C-80C2936E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C6460-5C76-4157-9A0A-94AA4C03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1163A-3659-4CC8-9795-76E56510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0C207-56B8-49CD-AFC9-0FB6803C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ACB-B518-4820-9724-0E7E7128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C33A2-D389-440C-A7A4-D91BF851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B12C8-FEE5-4086-B7B6-A1D83EB8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64177-C2ED-44E4-A960-4D7AAF96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583E9-0057-4EA9-9D79-C954ED36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ED89D-9E62-467D-903D-3301FDDF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1D42B-489E-43BC-9F47-BA0F932B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9CCEB-A816-4707-BF0E-49C3769B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43EAB-92B7-44E5-985E-2013DA83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371DD-A868-4E0A-A410-BD46FC43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1DB65-EE76-42FA-A597-7500C247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90B1-AF3A-4233-BFDA-07BACADA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CDF2B-7FAE-4BE1-848E-A6B48FC4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F4247-37E4-49DF-8E8E-DB101554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687CD-C95E-4C70-A989-E934F175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E49CB-C912-45F6-87F4-161B398D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0E090-9A55-4D56-96E8-AD4A9B5E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269C9-F166-4064-9EFD-F592FE79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8056B-DBA7-46B8-93EE-51425AEA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4F28-339E-4C12-9732-B4AE3895AB5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CC60-65BE-4997-BC04-ADB19DFF720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2692-81B3-4489-9B3D-C2B015FA572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1DEC-B259-4CA7-9CEA-5293EEF4B85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A35B-B459-4C91-9EA0-59083BD3D49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518A-6E6E-4E51-BC52-EAA6488C66F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AE4A-87FE-47E9-985E-5B571A58952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C7EC-47C3-4DFC-8FB7-F0A34227FE3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6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9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2144880" y="1481040"/>
            <a:ext cx="4854240" cy="4525920"/>
          </a:xfrm>
          <a:prstGeom prst="rect">
            <a:avLst/>
          </a:prstGeom>
          <a:ln w="0">
            <a:noFill/>
          </a:ln>
        </p:spPr>
      </p:pic>
      <p:sp>
        <p:nvSpPr>
          <p:cNvPr id="379" name="TextBox 9"/>
          <p:cNvSpPr/>
          <p:nvPr/>
        </p:nvSpPr>
        <p:spPr>
          <a:xfrm>
            <a:off x="6324480" y="5105520"/>
            <a:ext cx="25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0"/>
          <p:cNvSpPr/>
          <p:nvPr/>
        </p:nvSpPr>
        <p:spPr>
          <a:xfrm>
            <a:off x="5867280" y="5562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Arial"/>
              </a:rPr>
              <a:t>Depth of Knowledge D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http://www.wcer.wisc.edu/news/coverstories/images/webb_norm.jpg"/>
          <p:cNvPicPr/>
          <p:nvPr/>
        </p:nvPicPr>
        <p:blipFill>
          <a:blip r:embed="rId3"/>
          <a:stretch/>
        </p:blipFill>
        <p:spPr>
          <a:xfrm>
            <a:off x="7086600" y="2286000"/>
            <a:ext cx="1370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  <a:ea typeface="MS PGothic"/>
              </a:rPr>
              <a:t>Created at the University of Wisconsin Center for Education Research and the National Institute for Science Educ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  <a:ea typeface="MS PGothic"/>
              </a:rPr>
              <a:t>Has been </a:t>
            </a:r>
            <a:r>
              <a:rPr b="0" lang="en-US" sz="2800" spc="-1" strike="noStrike">
                <a:solidFill>
                  <a:srgbClr val="fb0b05"/>
                </a:solidFill>
                <a:latin typeface="Arial"/>
                <a:ea typeface="MS PGothic"/>
              </a:rPr>
              <a:t>used to guide assessment development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  <a:ea typeface="MS PGothic"/>
              </a:rPr>
              <a:t> for classroom, school and state assessm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0b05"/>
                </a:solidFill>
                <a:latin typeface="Arial"/>
                <a:ea typeface="MS PGothic"/>
              </a:rPr>
              <a:t>Provides a 1-4 scale of cognitive demands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  <a:ea typeface="MS PGothic"/>
              </a:rPr>
              <a:t> that help align standards with CCSS assessm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MS PGothic"/>
              </a:rPr>
              <a:t>Can be used to help define what we mean by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i="1" lang="en-US" sz="2800" spc="-1" strike="noStrike">
                <a:solidFill>
                  <a:srgbClr val="062329"/>
                </a:solidFill>
                <a:latin typeface="Arial"/>
                <a:ea typeface="MS PGothic"/>
              </a:rPr>
              <a:t>rigorous tas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”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MS PGothic"/>
              </a:rPr>
              <a:t>and/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i="1" lang="en-US" sz="2800" spc="-1" strike="noStrike">
                <a:solidFill>
                  <a:srgbClr val="062329"/>
                </a:solidFill>
                <a:latin typeface="Arial"/>
                <a:ea typeface="MS PGothic"/>
              </a:rPr>
              <a:t>cognitively demanding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”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MS PGothic"/>
              </a:rPr>
              <a:t>task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3"/>
          <p:cNvSpPr/>
          <p:nvPr/>
        </p:nvSpPr>
        <p:spPr>
          <a:xfrm>
            <a:off x="457200" y="609480"/>
            <a:ext cx="8404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Arial"/>
              </a:rPr>
              <a:t>Depth of Knowledge: 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a2bf"/>
                </a:solidFill>
                <a:latin typeface="Arial"/>
              </a:rPr>
              <a:t>Level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dentify the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a2bf"/>
                </a:solidFill>
                <a:latin typeface="Arial"/>
              </a:rPr>
              <a:t>Level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xplain the function of the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a2bf"/>
                </a:solidFill>
                <a:latin typeface="Arial"/>
              </a:rPr>
              <a:t>Level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xplain how a drought might affect the growth of the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a2bf"/>
                </a:solidFill>
                <a:latin typeface="Arial"/>
              </a:rPr>
              <a:t>Level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esign an investigation of seedling growth to determine the best fertilizer for this type of tr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oak_tree_nature-11908.jpg"/>
          <p:cNvPicPr/>
          <p:nvPr/>
        </p:nvPicPr>
        <p:blipFill>
          <a:blip r:embed="rId1"/>
          <a:stretch/>
        </p:blipFill>
        <p:spPr>
          <a:xfrm>
            <a:off x="5943600" y="1219320"/>
            <a:ext cx="26668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40800"/>
                </a:solidFill>
                <a:latin typeface="Arial"/>
                <a:ea typeface="MS PGothic"/>
              </a:rPr>
              <a:t>Level 1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MS PGothic"/>
              </a:rPr>
              <a:t>: Recall and Reproduction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Requires </a:t>
            </a:r>
            <a:r>
              <a:rPr b="1" i="1" lang="en-US" sz="1700" spc="-1" strike="noStrike">
                <a:solidFill>
                  <a:srgbClr val="fb0b05"/>
                </a:solidFill>
                <a:latin typeface="Arial"/>
                <a:ea typeface="MS PGothic"/>
              </a:rPr>
              <a:t>recall of information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,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 such as a fact, definition, term, or performance of a simple process or procedure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40800"/>
                </a:solidFill>
                <a:latin typeface="Arial"/>
                <a:ea typeface="MS PGothic"/>
              </a:rPr>
              <a:t>Level 2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MS PGothic"/>
              </a:rPr>
              <a:t>: Skills &amp; Concept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65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20202"/>
                </a:solidFill>
                <a:latin typeface="Arial"/>
                <a:ea typeface="MS PGothic"/>
              </a:rPr>
              <a:t>Includes the </a:t>
            </a:r>
            <a:r>
              <a:rPr b="1" i="1" lang="en-US" sz="1700" spc="-1" strike="noStrike">
                <a:solidFill>
                  <a:srgbClr val="fc4e4a"/>
                </a:solidFill>
                <a:latin typeface="Arial"/>
                <a:ea typeface="MS PGothic"/>
              </a:rPr>
              <a:t>engagement of some mental processing</a:t>
            </a:r>
            <a:r>
              <a:rPr b="0" i="1" lang="en-US" sz="1700" spc="-1" strike="noStrike">
                <a:solidFill>
                  <a:srgbClr val="020202"/>
                </a:solidFill>
                <a:latin typeface="Arial"/>
                <a:ea typeface="MS PGothic"/>
              </a:rPr>
              <a:t> beyond recalling or reproducing a response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65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20202"/>
                </a:solidFill>
                <a:latin typeface="Arial"/>
                <a:ea typeface="MS PGothic"/>
              </a:rPr>
              <a:t>Items require students to make some decisions as to how to approach the question or problem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65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20202"/>
                </a:solidFill>
                <a:latin typeface="Arial"/>
                <a:ea typeface="MS PGothic"/>
              </a:rPr>
              <a:t> </a:t>
            </a:r>
            <a:r>
              <a:rPr b="0" i="1" lang="en-US" sz="1700" spc="-1" strike="noStrike">
                <a:solidFill>
                  <a:srgbClr val="020202"/>
                </a:solidFill>
                <a:latin typeface="Arial"/>
                <a:ea typeface="MS PGothic"/>
              </a:rPr>
              <a:t>Actions imply more than one mental or cognitive process/step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40800"/>
                </a:solidFill>
                <a:latin typeface="Arial"/>
                <a:ea typeface="MS PGothic"/>
              </a:rPr>
              <a:t>Level 3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MS PGothic"/>
              </a:rPr>
              <a:t>: Short-term Strategic Thinking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65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Requires </a:t>
            </a:r>
            <a:r>
              <a:rPr b="1" i="1" lang="en-US" sz="1700" spc="-1" strike="noStrike">
                <a:solidFill>
                  <a:srgbClr val="fb0b05"/>
                </a:solidFill>
                <a:latin typeface="Arial"/>
                <a:ea typeface="MS PGothic"/>
              </a:rPr>
              <a:t>deep understanding exhibited through planning, using evidence, and more demanding </a:t>
            </a:r>
            <a:r>
              <a:rPr b="1" i="1" lang="en-US" sz="1700" spc="-1" strike="noStrike" u="sng">
                <a:solidFill>
                  <a:srgbClr val="fb0b05"/>
                </a:solidFill>
                <a:uFillTx/>
                <a:latin typeface="Arial"/>
                <a:ea typeface="MS PGothic"/>
              </a:rPr>
              <a:t>cognitive</a:t>
            </a:r>
            <a:r>
              <a:rPr b="1" i="1" lang="en-US" sz="1700" spc="-1" strike="noStrike">
                <a:solidFill>
                  <a:srgbClr val="fb0b05"/>
                </a:solidFill>
                <a:latin typeface="Arial"/>
                <a:ea typeface="MS PGothic"/>
              </a:rPr>
              <a:t> reasoning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65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The cognitive demands are complex and abstract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65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An assessment item that has more than one possible answer and requires students to justify the response would most likely be a Level 3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40800"/>
                </a:solidFill>
                <a:latin typeface="Arial"/>
                <a:ea typeface="MS PGothic"/>
              </a:rPr>
              <a:t>Level 4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MS PGothic"/>
              </a:rPr>
              <a:t>: Extended Strategic Thinking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65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Requires </a:t>
            </a:r>
            <a:r>
              <a:rPr b="0" i="1" lang="en-US" sz="17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high cognitive demand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 and is very complex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65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Students are </a:t>
            </a:r>
            <a:r>
              <a:rPr b="1" i="1" lang="en-US" sz="1700" spc="-1" strike="noStrike">
                <a:solidFill>
                  <a:srgbClr val="fb0b05"/>
                </a:solidFill>
                <a:latin typeface="Arial"/>
                <a:ea typeface="MS PGothic"/>
              </a:rPr>
              <a:t>expected to make connections, relate ideas within the content or among content areas, and select or devise one approach among many alternatives on how the situation can be solved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65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Due to the complexity of cognitive demand, DOK 4  often requires an extended period of time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1394280" y="685800"/>
            <a:ext cx="542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Arial"/>
              </a:rPr>
              <a:t>Depth of Knowledge:  Rea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990720" y="160020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a2bf"/>
                </a:solidFill>
                <a:latin typeface="Arial"/>
              </a:rPr>
              <a:t>Level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Use a dictionary to find the meaning of words; identify figurative language in a reading pa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a2bf"/>
                </a:solidFill>
                <a:latin typeface="Arial"/>
              </a:rPr>
              <a:t>Level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Use context cues to identify the meaning of unfamiliar words; describe how figurative language adds to an action or m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a2bf"/>
                </a:solidFill>
                <a:latin typeface="Arial"/>
              </a:rPr>
              <a:t>Level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Determine why an author chose to use certain phrases; critique an author’s choice of words to convey a mood or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a2bf"/>
                </a:solidFill>
                <a:latin typeface="Arial"/>
              </a:rPr>
              <a:t>Level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Compare/Contrast a specific author’s word choice/style across his texts, even those with different t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j0396700.wmf"/>
          <p:cNvPicPr/>
          <p:nvPr/>
        </p:nvPicPr>
        <p:blipFill>
          <a:blip r:embed="rId1"/>
          <a:stretch/>
        </p:blipFill>
        <p:spPr>
          <a:xfrm>
            <a:off x="7543800" y="5257800"/>
            <a:ext cx="11606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92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a1f28"/>
                </a:solidFill>
                <a:latin typeface="Arial"/>
                <a:ea typeface="MS PGothic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200" spc="-1" strike="noStrike">
                <a:solidFill>
                  <a:srgbClr val="da1f28"/>
                </a:solidFill>
                <a:latin typeface="Arial"/>
                <a:ea typeface="MS PGothic"/>
              </a:rPr>
              <a:t>(Grade 4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 Each day that Jasmine turns in her homework on time, she earns 5 points. Jasmine has turned in her homework on time for the last 8 days. How many points has Jasmine earned altogether?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da1f28"/>
                </a:solidFill>
                <a:latin typeface="Arial"/>
                <a:ea typeface="MS PGothic"/>
              </a:rPr>
              <a:t>a)30      b)35   </a:t>
            </a:r>
            <a:r>
              <a:rPr b="1" lang="en-US" sz="1900" spc="-1" strike="noStrike">
                <a:solidFill>
                  <a:srgbClr val="da1f28"/>
                </a:solidFill>
                <a:latin typeface="Arial"/>
                <a:ea typeface="MS PGothic"/>
              </a:rPr>
              <a:t>	</a:t>
            </a:r>
            <a:r>
              <a:rPr b="1" lang="en-US" sz="1900" spc="-1" strike="noStrike">
                <a:solidFill>
                  <a:srgbClr val="da1f28"/>
                </a:solidFill>
                <a:latin typeface="Arial"/>
                <a:ea typeface="MS PGothic"/>
              </a:rPr>
              <a:t>c)40</a:t>
            </a:r>
            <a:r>
              <a:rPr b="1" lang="en-US" sz="1900" spc="-1" strike="noStrike">
                <a:solidFill>
                  <a:srgbClr val="da1f28"/>
                </a:solidFill>
                <a:latin typeface="Arial"/>
                <a:ea typeface="MS PGothic"/>
              </a:rPr>
              <a:t>	</a:t>
            </a:r>
            <a:r>
              <a:rPr b="1" lang="en-US" sz="1900" spc="-1" strike="noStrike">
                <a:solidFill>
                  <a:srgbClr val="da1f28"/>
                </a:solidFill>
                <a:latin typeface="Arial"/>
                <a:ea typeface="MS PGothic"/>
              </a:rPr>
              <a:t>   d)45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a1f28"/>
                </a:solidFill>
                <a:latin typeface="Arial"/>
                <a:ea typeface="Arial"/>
              </a:rPr>
              <a:t>Scie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500" spc="-1" strike="noStrike">
                <a:solidFill>
                  <a:srgbClr val="da1f28"/>
                </a:solidFill>
                <a:latin typeface="Arial"/>
                <a:ea typeface="Arial"/>
              </a:rPr>
              <a:t>(Grade 8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scientist synthesizes a new drug. She wants to test its effectiveness in stopping the growth of cancerous tumors. She decides to conduct a series of experiments on laboratory mice to test her hypothesis. What should she do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a1f28"/>
                </a:solidFill>
                <a:latin typeface="Lucida Sans Unicode"/>
              </a:rPr>
              <a:t>a) </a:t>
            </a:r>
            <a:r>
              <a:rPr b="1" lang="en-US" sz="1500" spc="-1" strike="noStrike">
                <a:solidFill>
                  <a:srgbClr val="da1f28"/>
                </a:solidFill>
                <a:latin typeface="Arial"/>
                <a:ea typeface="Arial"/>
              </a:rPr>
              <a:t>Give half the mice the drug, the other half none, and compare their tumor rates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a1f28"/>
                </a:solidFill>
                <a:latin typeface="Arial"/>
                <a:ea typeface="Arial"/>
              </a:rPr>
              <a:t>b) Give the drug to all mice, but only to half every other day, and record tumor rates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a1f28"/>
                </a:solidFill>
                <a:latin typeface="Arial"/>
                <a:ea typeface="Arial"/>
              </a:rPr>
              <a:t>c) Double the dosage to all mice each day until tumors start to disappear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a1f28"/>
                </a:solidFill>
                <a:latin typeface="Arial"/>
                <a:ea typeface="Arial"/>
              </a:rPr>
              <a:t>d) Give the drug only to those mice who have tumors and record their weights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TextBox 5"/>
          <p:cNvSpPr/>
          <p:nvPr/>
        </p:nvSpPr>
        <p:spPr>
          <a:xfrm>
            <a:off x="6858000" y="914400"/>
            <a:ext cx="1828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4" descr="http://t0.gstatic.com/images?q=tbn:ANd9GcSsSQJo8mLbyV0UdPgWf0z66kd5gpfLFESsiX_RHW-Q25_ySBUHWrBXZe9YZg"/>
          <p:cNvPicPr/>
          <p:nvPr/>
        </p:nvPicPr>
        <p:blipFill>
          <a:blip r:embed="rId2"/>
          <a:stretch/>
        </p:blipFill>
        <p:spPr>
          <a:xfrm>
            <a:off x="7010280" y="152280"/>
            <a:ext cx="1533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3"/>
          <p:cNvSpPr/>
          <p:nvPr/>
        </p:nvSpPr>
        <p:spPr>
          <a:xfrm>
            <a:off x="1676520" y="20574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Title 6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14079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Why do the main characters in this story conflic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dentify the main characters in this sto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Which of the following best describes the main characters’ feelings about each oth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terview your friends to find out how they deal with conflicts in their lives &amp; compare/contrast with the actions of the character in foc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Picture 4" descr="Your Turn.bmp"/>
          <p:cNvPicPr/>
          <p:nvPr/>
        </p:nvPicPr>
        <p:blipFill>
          <a:blip r:embed="rId2"/>
          <a:stretch/>
        </p:blipFill>
        <p:spPr>
          <a:xfrm>
            <a:off x="7848720" y="57150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Your Turn.bmp"/>
          <p:cNvPicPr/>
          <p:nvPr/>
        </p:nvPicPr>
        <p:blipFill>
          <a:blip r:embed="rId3"/>
          <a:stretch/>
        </p:blipFill>
        <p:spPr>
          <a:xfrm>
            <a:off x="152280" y="228600"/>
            <a:ext cx="131616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7:19:27Z</dcterms:created>
  <dc:creator>kmcauli</dc:creator>
  <dc:description/>
  <dc:language>en-US</dc:language>
  <cp:lastModifiedBy>daphnesnook</cp:lastModifiedBy>
  <dcterms:modified xsi:type="dcterms:W3CDTF">2012-10-05T20:53:56Z</dcterms:modified>
  <cp:revision>119</cp:revision>
  <dc:subject/>
  <dc:title>Assessing Performance Tasks for Rigor</dc:title>
</cp:coreProperties>
</file>